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998B-F5A2-4E7D-BE1F-44AA0AAA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B0FA-30E8-44C1-B974-F1AD1444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7633-D0EC-4DB0-A572-99E75A277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DA75-ABDB-4FB4-9732-97FB9FEA4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BFF0-B5BB-404D-B2CC-24FF8E10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E8D9-8E58-4719-BF04-1E99CF01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C66E-5C14-4BBF-A431-856E008A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E1A5-A2F6-4209-A670-CE431567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1CAC-CA89-4FF9-A62C-2214C8CA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06F7-2447-4F32-8A23-68A55AB6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2A04-6995-4DFA-A70F-0C69884B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B287-04EA-46F7-A33E-FE67E304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7D52-E6EA-4328-B6E8-D70C500D8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3-1 Classifying 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066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substanc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14479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atter that alway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has exactly the same fixed, uniform composition (make-u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2209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able salt; su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590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2 categories of pure substa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2971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Elements:  substance which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cannot be broken down into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impler sub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37339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fixed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composition because it only has one kind of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42670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Compounds: substance that i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made from 2 or mor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impler substances and can be broken down into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ose simpler sub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roperties of a compound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re DIFFERENT than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ose of the substance which make them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1523880"/>
            <a:ext cx="7086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ompounds ALWAY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contain 2 or more elements joined in a FIXED proportion.  EX: H</a:t>
            </a:r>
            <a:r>
              <a:rPr b="0" lang="en-US" sz="2400" spc="-1" strike="noStrike" baseline="-25000">
                <a:solidFill>
                  <a:srgbClr val="9966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23623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x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2819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ombo of variou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ubstances (each stays as itsel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33526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O fixed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compos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33526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X: sal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3886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2 categories of mix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434340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terogeneous –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parts noticeably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Homogeneous—substances evenly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distributed,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difficult to tell one substance from an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16002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looks lik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one subst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0574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water in a swimming p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2514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chlorine, water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28954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3276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 homogenous mixtur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formed when substances dissol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36576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windshield fluid –substance dissolves to form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40384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pens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4495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heterogeneous mixtur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at separates into layers ove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495288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vinegar and oil salad dressing – distinct layers after a 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while left a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o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13716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ubstance which contains som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particles that are intermediate (middle) in size between the smaller particles in a solution and the larger particles in a susp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5146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  --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homogenized milk –fat lay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30481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Fog – water drop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02:40:34Z</dcterms:created>
  <dc:creator>jpak</dc:creator>
  <dc:description/>
  <dc:language>en-US</dc:language>
  <cp:lastModifiedBy>User</cp:lastModifiedBy>
  <dcterms:modified xsi:type="dcterms:W3CDTF">2010-10-06T15:50:47Z</dcterms:modified>
  <cp:revision>13</cp:revision>
  <dc:subject/>
  <dc:title>Note Guide 3-1 Classifying Matter</dc:title>
</cp:coreProperties>
</file>